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3372F-C51B-41C5-A7EB-5C5A3E9745FF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928F-1178-4377-BE1D-A84BDA507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D2AF-5024-455A-B0D6-98066FEA2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7E1433-9546-408E-89D5-0A1A22B35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830887-0B4B-4621-85BC-EF5D136B5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6B2AA6-27F9-42EC-8A60-A273B6D94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C3729D-FD06-4316-AE2C-37858BB1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CE7063-723B-4B46-9432-FC0F49AA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D797BB-D037-410C-9B78-33907A93C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B9DECE-E638-4673-A107-B2A89107E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7DD74A-B928-4F24-BC41-AF17D9C68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514588-2AB9-4350-9DA9-41A6E3F67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FDA92B-1865-4297-98FE-F42F79297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54AC-A3A7-48C4-A6BE-2C449AC51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E6B60E-75F5-4B26-B4C5-8B334297A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22DA37-1854-4F34-A6C3-D351861E7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4DCD9B-052C-463C-9275-4EAC63F89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0AD172-3AFB-46D8-81E2-333086E4A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9C2FFD-1AF9-4757-A4BE-588285103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72D1B0-0417-43AE-8816-E812F1FD4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9C5DF7-4A22-4120-913E-6838EC2E6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DF5952-584A-4004-A273-088BCE51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2D818F-6495-4077-8A3C-2A9B1327D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22603A-0A2B-4B0A-904A-B23CFB2F4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FD95-A057-484E-879E-2FF4B0C0D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EDD1BB-22C4-4BE2-BA78-3F16FDA56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174109-6039-47A2-95E6-D5EC15386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8F51C9-8D55-4212-B38A-3A9D6A0F5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922609-7253-437C-B111-A6AE743C6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D125A4-A5AD-4F42-818A-357C3EDAC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604EBD-1F0D-4125-8DEB-A3A480196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CE0D84-38A2-4EAA-BF0A-97D41369A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E63069-8D58-422E-AE4A-9F6EA6156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30B430-C057-4576-9D58-1BA022AE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9CA7AD-CCB7-49AF-B985-8D4D67F97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61C27-0A14-4228-ABCF-17C55A321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EE2693-30C2-4670-8E04-0F20FF764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55D77C-5FC9-43D9-8223-C4CD751F5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7F35D9-8F2A-4957-BFC6-2A253B9E2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375241-7BB3-46EB-91F9-1F36819DA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AC60BC-7500-40F5-AE1A-5E3C4C0A8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6733ED-D7D1-4686-B90E-7D9C170BC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D3D247-5939-4515-BCCE-CB6489C24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7C01DD-2CFA-4F20-B33E-0B25975EC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D3F159-3914-4755-A1B2-71E05804E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DC4345-4014-4D35-AF23-6D2B6948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7120B-2025-420B-88AB-3778C81A7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5BB112-F3C2-4A33-A17F-39AF8B42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896BC7-2E53-4B95-B178-8B99D3952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E6E47A-0E60-42EA-A8C6-616345646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89EC49-2B6D-4F22-A0F3-D5C7EB25E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FD6AFC-5757-421F-919A-8499813E0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CB5B966-CB94-4ABA-8F66-878E9C095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3311314-F293-45D5-A2B1-BE8A7B0B7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526EC18-DF38-4CC4-A079-DCD2731F9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856E566-2DD8-4DF8-9948-798F07FFF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71D302F-21F6-40ED-BEB2-497D7FC1E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E2602-A6D5-4E20-8BCF-357C068EE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06FC8AE-E429-47F5-9801-9849852A0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E55EB98-8E61-4052-9858-A3789542D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665400F-6876-4CF2-B74D-3726F34AA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2719E69-2023-4CFF-A24F-8B6D5BC4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DDEE49D-FDE7-424E-B8DF-D6884CE2C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51BBD58-4586-421E-8843-AA481E576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8B4D2A1-52C7-481A-AAAA-6603F431F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E9228-DFA9-4B0B-BBB0-E89ABA3E3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5E88F-2BDA-4E52-B365-9DD540A3F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3C883-AD70-4CEB-8223-2065AB2B8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02922-5B70-4821-8DB6-C22D9164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F7E9-4AC5-4F41-AB47-49647D857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12BE6-1E8A-41EF-BB72-CF7D52B8B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D5F91-AC50-43F2-8C66-DEB146E54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68BD6-753C-45D4-A8E6-96BB84EE5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56131-FE3A-4491-A434-99F5160C0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01386-61B4-46D9-A749-06896BDBE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9BCD1-AA5D-4ABE-8588-6836094B5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25E45-6950-4453-90BD-16D8085D3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D6F74-D031-49CF-996C-3BD29DAEA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0EC8C-CF19-4B00-979D-494311A99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8F0C2-BA3D-4EE7-A2F5-AD9BF09BB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0078-90BB-4014-858C-8B7ADBC6C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CCF83-29F2-46F4-89E4-3305BEE89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3B095-EEBA-40D3-BC2B-2B07A6BF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486A3-324D-4A64-8525-924FF8EC2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27154-96B3-4C5D-B371-A62C41E87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ADA58-5568-4078-A61A-F843EA014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D88EE-A4E3-414F-BD77-127387CB7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B89E3-144E-4094-9112-989BCF673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1759B-B257-42EC-9DBA-605942609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ED9D9-13AB-42F4-B6C9-5F9BCBAAE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BA2AE-87E9-4082-ACF9-9F856C444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CB70-9040-40CC-B2AE-862A5676F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FDB24-7A48-43B5-BBE6-00E19C3EB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666EA-A6CE-49BB-9C4F-79E57D1AC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F6207-04FA-4F99-A2AB-CCD3A3D48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C240F-6883-4F4C-B858-5E0706C25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3632E-1C86-4AEB-B70B-8074AFBB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880A4-50D0-43E2-A9CC-C2A8BACD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4D1D7-428B-45FD-901E-413E0F2F6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07523-C1DA-4EAA-8E0C-688C91F92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4DF0C-C49C-4544-9B72-8F277F736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BF8EBF-A602-4E35-B939-29F22B54D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C632-8F3B-4518-8155-2F6CF8CD0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1B426-4FF3-477A-8C06-904F97278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4E8FA0-25B6-41C7-B3C0-A5B4ACB22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74C69C-FA9E-44D7-974E-B6E2B4067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95B3E-3498-4731-B03C-41CEEDF70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1DCE2-10ED-4628-962F-136D30412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10363-AEF2-49AB-B59D-33C71BE4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03918-D022-41FF-835F-E755AE18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1FEE62-8E73-45B8-BBE6-A94CBE183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4CE851-2AC5-4796-9FBB-DE893E798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76FED-8A8D-49FA-AA52-43C7907BA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DECE-93FE-4C25-ADCF-E3BB8F94E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F13C44-0D2C-41C4-9477-755375990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6812E9-155D-4D14-A196-748BFEA17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EAA387-5365-4377-A4C6-1D59FD25D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769E12-E50D-45AE-9744-C7178E82B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0BDD8B-491E-4FE2-990C-A575CB7BE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3B3A26-89D5-40CC-BBE9-4F357AE18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E64B6A-E534-4FA2-AFD0-C8E8878E9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A52D52-46B9-4773-852B-7DE79723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3CCB92-0FB9-4B30-A8C5-AB4EF61C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1BB16C-163D-4E7C-AE12-7E69FA147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DE67-CF9E-4046-876D-443EE4E0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5D45F1-80A1-4AD9-9771-A77928A14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A6089B-7BB3-403E-ABF7-FA9413F30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370376-CD28-4300-A314-89EA04D15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6D5B6A-B160-47A1-BEF8-0594F8298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C47A64-9573-4754-94CB-D69E7B5D0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213615-C553-45AE-B0E6-090FB05F7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D2D0AA-FD9E-4BFB-AE44-2FFFE1997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7DD622-4C9E-4C4E-AC58-56DE7CD59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CF76E0-96AF-4502-B7B6-E7CF2BB1B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26C2E7-9F30-4A4B-BE21-8976AA64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83B1-A031-4EDF-B422-B85DFB612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344B81-A7EE-49E7-B614-06D17083A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CB5A55-62D9-4FA3-99AF-A329A598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7D1A69-F67C-46A7-84B3-EDEAFAC24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4BF581-A997-4698-850A-F7BB938C0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FAE4C9-7A35-4636-966E-7A182DB08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C9CE03-AC33-476E-8A4A-61CBA9276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C7354C-29B8-4B4D-A42A-07CF4071F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0BD113-01D2-400B-BFE5-68F993E2C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5EE802-87DD-4201-A1A5-285886932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D86A84-8E8B-4E48-9A1F-03F33201B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F7C3-64BF-47E1-AE9B-3291C19B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8C6E2C-C5DC-4A4C-9C28-ABB705A15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66FDF0-C427-4ECF-AFB1-C944DC01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177B16-6F40-4FAA-9E63-85C8A9AF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EA001A-AB78-41BC-83B0-F8B08D938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C47B41-0091-455F-8452-0351C3E60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1EC7EE-9725-4E9F-B6AD-87DC22A79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5F07B0-1D06-440C-BBD5-CAB61FBA9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19425B-A321-4075-8E38-05606E906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49F184-494D-4A24-AF3E-7821852B2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4C3777-7E76-4A2A-98EB-A3F3EC83B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E21ED-66CA-430F-AB6B-BD260C2AAB3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FB553-C7C9-463A-9AF1-6008DEFB5AC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E1EB0-6E1F-440E-9778-CC3148A9AD9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67497-BAF2-41A5-B323-F97800EF224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54131-77FA-4F11-9352-8121F2081A0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DD2FA-7A1C-43EA-A178-6AD3E181101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DDCD4-9612-41FE-93E3-C54F3A4451F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A4006-16E7-4E98-A97F-DF027F5249D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F643A-40BB-4433-8A25-02C3C40EC62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2F2B5-FB2A-48B9-B9A4-0532686D3D3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322B8-56EC-42A7-B462-D24A50CAABC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91233-44CE-4F7C-8D02-C8AFD2B02A1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CD4D1-CDF1-4EB9-A519-64F9CBC0FA2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32236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487440" y="3316320"/>
            <a:ext cx="313380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61800" y="234468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343480" y="326700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의 이해 및 해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256360" y="4187880"/>
            <a:ext cx="265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에 대한 쟁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1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2CA58-8A76-4F9D-AED8-470AC3C939C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2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sp>
        <p:nvSpPr>
          <p:cNvPr id="78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84E44-D210-40B9-8B47-301B3B4AD59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6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란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그룹 43"/>
          <p:cNvGrpSpPr/>
          <p:nvPr/>
        </p:nvGrpSpPr>
        <p:grpSpPr>
          <a:xfrm>
            <a:off x="571680" y="1876320"/>
            <a:ext cx="8072280" cy="3052800"/>
            <a:chOff x="571680" y="1876320"/>
            <a:chExt cx="8072280" cy="3052800"/>
          </a:xfrm>
        </p:grpSpPr>
        <p:pic>
          <p:nvPicPr>
            <p:cNvPr id="79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052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79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9" name="직사각형 19"/>
            <p:cNvSpPr/>
            <p:nvPr/>
          </p:nvSpPr>
          <p:spPr>
            <a:xfrm>
              <a:off x="928800" y="19918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한 조건에서 많은 수의 학생들을 대상으로 시행되고 동일한 절차에 따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채점되는 평가도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직사각형 16"/>
          <p:cNvSpPr/>
          <p:nvPr/>
        </p:nvSpPr>
        <p:spPr>
          <a:xfrm>
            <a:off x="928800" y="29941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규준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표성을 띠는 개인들의 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이러한 개인들의 표준화 점수를 가지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 전국적 규준을 구성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타원 20"/>
          <p:cNvGrpSpPr/>
          <p:nvPr/>
        </p:nvGrpSpPr>
        <p:grpSpPr>
          <a:xfrm>
            <a:off x="835200" y="3170160"/>
            <a:ext cx="225360" cy="225360"/>
            <a:chOff x="835200" y="3170160"/>
            <a:chExt cx="225360" cy="225360"/>
          </a:xfrm>
        </p:grpSpPr>
        <p:pic>
          <p:nvPicPr>
            <p:cNvPr id="80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317016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"/>
            <p:cNvSpPr/>
            <p:nvPr/>
          </p:nvSpPr>
          <p:spPr>
            <a:xfrm rot="10800000">
              <a:off x="915840" y="32270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직사각형 21"/>
          <p:cNvSpPr/>
          <p:nvPr/>
        </p:nvSpPr>
        <p:spPr>
          <a:xfrm>
            <a:off x="928800" y="399240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규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에서 선발된 대표 학생들이 표준화 검사에서 획득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타원 22"/>
          <p:cNvGrpSpPr/>
          <p:nvPr/>
        </p:nvGrpSpPr>
        <p:grpSpPr>
          <a:xfrm>
            <a:off x="835200" y="4170240"/>
            <a:ext cx="225360" cy="219240"/>
            <a:chOff x="835200" y="4170240"/>
            <a:chExt cx="225360" cy="219240"/>
          </a:xfrm>
        </p:grpSpPr>
        <p:pic>
          <p:nvPicPr>
            <p:cNvPr id="806" name="타원 22" descr=""/>
            <p:cNvPicPr/>
            <p:nvPr/>
          </p:nvPicPr>
          <p:blipFill>
            <a:blip r:embed="rId6"/>
            <a:stretch/>
          </p:blipFill>
          <p:spPr>
            <a:xfrm>
              <a:off x="835200" y="4170240"/>
              <a:ext cx="22536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"/>
            <p:cNvSpPr/>
            <p:nvPr/>
          </p:nvSpPr>
          <p:spPr>
            <a:xfrm rot="10800000">
              <a:off x="915840" y="422712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09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71278-4C3D-4774-B933-40237FBF1F2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1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12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기능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43"/>
          <p:cNvGrpSpPr/>
          <p:nvPr/>
        </p:nvGrpSpPr>
        <p:grpSpPr>
          <a:xfrm>
            <a:off x="571680" y="1876320"/>
            <a:ext cx="8072280" cy="3267360"/>
            <a:chOff x="571680" y="1876320"/>
            <a:chExt cx="8072280" cy="3267360"/>
          </a:xfrm>
        </p:grpSpPr>
        <p:pic>
          <p:nvPicPr>
            <p:cNvPr id="82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267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2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2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4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5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 평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진척에 대한 객관적인 정보제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직사각형 16"/>
          <p:cNvSpPr/>
          <p:nvPr/>
        </p:nvSpPr>
        <p:spPr>
          <a:xfrm>
            <a:off x="928800" y="2571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장단점 진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타원 20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828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직사각형 21"/>
          <p:cNvSpPr/>
          <p:nvPr/>
        </p:nvSpPr>
        <p:spPr>
          <a:xfrm>
            <a:off x="928800" y="3714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로그램 평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프로그램에 대한 정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타원 22"/>
          <p:cNvGrpSpPr/>
          <p:nvPr/>
        </p:nvGrpSpPr>
        <p:grpSpPr>
          <a:xfrm>
            <a:off x="858960" y="3889440"/>
            <a:ext cx="226800" cy="225360"/>
            <a:chOff x="858960" y="3889440"/>
            <a:chExt cx="226800" cy="225360"/>
          </a:xfrm>
        </p:grpSpPr>
        <p:pic>
          <p:nvPicPr>
            <p:cNvPr id="832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388944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942840" y="3941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4" name="직사각형 23"/>
          <p:cNvSpPr/>
          <p:nvPr/>
        </p:nvSpPr>
        <p:spPr>
          <a:xfrm>
            <a:off x="928800" y="3135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선발과 배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별한 목적이 수업에 선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타원 25"/>
          <p:cNvGrpSpPr/>
          <p:nvPr/>
        </p:nvGrpSpPr>
        <p:grpSpPr>
          <a:xfrm>
            <a:off x="835200" y="3316320"/>
            <a:ext cx="225360" cy="225360"/>
            <a:chOff x="835200" y="3316320"/>
            <a:chExt cx="225360" cy="225360"/>
          </a:xfrm>
        </p:grpSpPr>
        <p:pic>
          <p:nvPicPr>
            <p:cNvPr id="836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31632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"/>
            <p:cNvSpPr/>
            <p:nvPr/>
          </p:nvSpPr>
          <p:spPr>
            <a:xfrm rot="10800000">
              <a:off x="915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직사각형 26"/>
          <p:cNvSpPr/>
          <p:nvPr/>
        </p:nvSpPr>
        <p:spPr>
          <a:xfrm>
            <a:off x="928800" y="4278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성적에 대한 책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지역의 학교들의 상대적인 수행에 대한 정보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9" name="타원 27"/>
          <p:cNvGrpSpPr/>
          <p:nvPr/>
        </p:nvGrpSpPr>
        <p:grpSpPr>
          <a:xfrm>
            <a:off x="858960" y="4456080"/>
            <a:ext cx="226800" cy="225360"/>
            <a:chOff x="858960" y="4456080"/>
            <a:chExt cx="226800" cy="225360"/>
          </a:xfrm>
        </p:grpSpPr>
        <p:pic>
          <p:nvPicPr>
            <p:cNvPr id="840" name="타원 27" descr=""/>
            <p:cNvPicPr/>
            <p:nvPr/>
          </p:nvPicPr>
          <p:blipFill>
            <a:blip r:embed="rId8"/>
            <a:stretch/>
          </p:blipFill>
          <p:spPr>
            <a:xfrm>
              <a:off x="858960" y="4456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1" name=""/>
            <p:cNvSpPr/>
            <p:nvPr/>
          </p:nvSpPr>
          <p:spPr>
            <a:xfrm rot="10800000">
              <a:off x="942840" y="4512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4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5F6C9-3F5D-42BD-9B79-4473DE63418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4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그룹 43"/>
          <p:cNvGrpSpPr/>
          <p:nvPr/>
        </p:nvGrpSpPr>
        <p:grpSpPr>
          <a:xfrm>
            <a:off x="571680" y="1876320"/>
            <a:ext cx="8072280" cy="3838680"/>
            <a:chOff x="571680" y="1876320"/>
            <a:chExt cx="8072280" cy="3838680"/>
          </a:xfrm>
        </p:grpSpPr>
        <p:pic>
          <p:nvPicPr>
            <p:cNvPr id="85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838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5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9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취도 검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특정한 내용 영역에서 얼마나 많이 배웠는지 측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직사각형 16"/>
          <p:cNvSpPr/>
          <p:nvPr/>
        </p:nvSpPr>
        <p:spPr>
          <a:xfrm>
            <a:off x="928800" y="27781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한 기능영역에서 학생들의 장점과 단점을 상세히 설명해 주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타원 20"/>
          <p:cNvGrpSpPr/>
          <p:nvPr/>
        </p:nvGrpSpPr>
        <p:grpSpPr>
          <a:xfrm>
            <a:off x="835200" y="2938320"/>
            <a:ext cx="225360" cy="225720"/>
            <a:chOff x="835200" y="2938320"/>
            <a:chExt cx="225360" cy="225720"/>
          </a:xfrm>
        </p:grpSpPr>
        <p:pic>
          <p:nvPicPr>
            <p:cNvPr id="86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93832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3" name=""/>
            <p:cNvSpPr/>
            <p:nvPr/>
          </p:nvSpPr>
          <p:spPr>
            <a:xfrm rot="10800000">
              <a:off x="915840" y="29937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21"/>
          <p:cNvSpPr/>
          <p:nvPr/>
        </p:nvSpPr>
        <p:spPr>
          <a:xfrm>
            <a:off x="928800" y="457668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성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위한 잠재력을 예측하며 오랜 시간에 걸쳐 개발된 일반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하는 검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타원 22"/>
          <p:cNvGrpSpPr/>
          <p:nvPr/>
        </p:nvGrpSpPr>
        <p:grpSpPr>
          <a:xfrm>
            <a:off x="858960" y="4743360"/>
            <a:ext cx="226800" cy="225360"/>
            <a:chOff x="858960" y="4743360"/>
            <a:chExt cx="226800" cy="225360"/>
          </a:xfrm>
        </p:grpSpPr>
        <p:pic>
          <p:nvPicPr>
            <p:cNvPr id="866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4743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7" name=""/>
            <p:cNvSpPr/>
            <p:nvPr/>
          </p:nvSpPr>
          <p:spPr>
            <a:xfrm rot="10800000">
              <a:off x="942840" y="4799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직사각형 23"/>
          <p:cNvSpPr/>
          <p:nvPr/>
        </p:nvSpPr>
        <p:spPr>
          <a:xfrm>
            <a:off x="928800" y="35053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능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을 습득할 수 있는 개인의 능력과 추상적인 것을 사고하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론하는 능력과 새로운 문제를 해결할 수 있는 능력을 측정하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9" name="타원 25"/>
          <p:cNvGrpSpPr/>
          <p:nvPr/>
        </p:nvGrpSpPr>
        <p:grpSpPr>
          <a:xfrm>
            <a:off x="835200" y="3724200"/>
            <a:ext cx="225360" cy="225360"/>
            <a:chOff x="835200" y="3724200"/>
            <a:chExt cx="225360" cy="225360"/>
          </a:xfrm>
        </p:grpSpPr>
        <p:pic>
          <p:nvPicPr>
            <p:cNvPr id="870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724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1" name=""/>
            <p:cNvSpPr/>
            <p:nvPr/>
          </p:nvSpPr>
          <p:spPr>
            <a:xfrm rot="10800000">
              <a:off x="915840" y="378000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7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8D045-785E-412E-A0DD-ED14C3AF1BF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7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7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8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88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8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9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타당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르쳐진 내용을 대표할 수 있는 문항으로 구성되었는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가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내용을 얼마나 이해하고 있는지를 측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험 내용과 교과과정의 목표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교해서 결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직사각형 16"/>
          <p:cNvSpPr/>
          <p:nvPr/>
        </p:nvSpPr>
        <p:spPr>
          <a:xfrm>
            <a:off x="928800" y="342900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언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래의 수행을 측정하는 검사의 능력에 대한 지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와 성적간의 상관관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직사각형 21"/>
          <p:cNvSpPr/>
          <p:nvPr/>
        </p:nvSpPr>
        <p:spPr>
          <a:xfrm>
            <a:off x="928800" y="4446720"/>
            <a:ext cx="7669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구성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과 그 시험이 측정하려는 것 사이의 논리적 연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학능력시험의 문제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단어와 수에 대해 추상적인 사고를 할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으로 이상의 것들을 대학에서 다뤄야 할 과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타원 22"/>
          <p:cNvGrpSpPr/>
          <p:nvPr/>
        </p:nvGrpSpPr>
        <p:grpSpPr>
          <a:xfrm>
            <a:off x="858960" y="4651200"/>
            <a:ext cx="226800" cy="219240"/>
            <a:chOff x="858960" y="4651200"/>
            <a:chExt cx="226800" cy="219240"/>
          </a:xfrm>
        </p:grpSpPr>
        <p:pic>
          <p:nvPicPr>
            <p:cNvPr id="893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4651200"/>
              <a:ext cx="22680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4" name=""/>
            <p:cNvSpPr/>
            <p:nvPr/>
          </p:nvSpPr>
          <p:spPr>
            <a:xfrm rot="10800000">
              <a:off x="942840" y="47080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타원 25"/>
          <p:cNvGrpSpPr/>
          <p:nvPr/>
        </p:nvGrpSpPr>
        <p:grpSpPr>
          <a:xfrm>
            <a:off x="835200" y="3602160"/>
            <a:ext cx="225360" cy="226800"/>
            <a:chOff x="835200" y="3602160"/>
            <a:chExt cx="225360" cy="226800"/>
          </a:xfrm>
        </p:grpSpPr>
        <p:pic>
          <p:nvPicPr>
            <p:cNvPr id="896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3602160"/>
              <a:ext cx="225360" cy="2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"/>
            <p:cNvSpPr/>
            <p:nvPr/>
          </p:nvSpPr>
          <p:spPr>
            <a:xfrm rot="10800000">
              <a:off x="915840" y="3656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8" name="직사각형 20"/>
          <p:cNvSpPr/>
          <p:nvPr/>
        </p:nvSpPr>
        <p:spPr>
          <a:xfrm>
            <a:off x="928800" y="60055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**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와 신뢰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900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2AD09-6DFB-4202-8751-8984D44E752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02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03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사의 역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0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12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13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14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5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6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표준화 검사 점수가 타당한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이 배운 것을 정확히 반영하는지 확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7" name="직사각형 16"/>
          <p:cNvSpPr/>
          <p:nvPr/>
        </p:nvSpPr>
        <p:spPr>
          <a:xfrm>
            <a:off x="928800" y="27147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결과를 학생과 부모에게 전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직사각형 21"/>
          <p:cNvSpPr/>
          <p:nvPr/>
        </p:nvSpPr>
        <p:spPr>
          <a:xfrm>
            <a:off x="928800" y="335772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 결과를 바탕으로 자신의 교수법에 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9" name="타원 22"/>
          <p:cNvGrpSpPr/>
          <p:nvPr/>
        </p:nvGrpSpPr>
        <p:grpSpPr>
          <a:xfrm>
            <a:off x="858960" y="3529080"/>
            <a:ext cx="226800" cy="225360"/>
            <a:chOff x="858960" y="3529080"/>
            <a:chExt cx="226800" cy="225360"/>
          </a:xfrm>
        </p:grpSpPr>
        <p:pic>
          <p:nvPicPr>
            <p:cNvPr id="920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3529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1" name=""/>
            <p:cNvSpPr/>
            <p:nvPr/>
          </p:nvSpPr>
          <p:spPr>
            <a:xfrm rot="10800000">
              <a:off x="942840" y="35841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타원 25"/>
          <p:cNvGrpSpPr/>
          <p:nvPr/>
        </p:nvGrpSpPr>
        <p:grpSpPr>
          <a:xfrm>
            <a:off x="835200" y="2882880"/>
            <a:ext cx="225360" cy="231840"/>
            <a:chOff x="835200" y="2882880"/>
            <a:chExt cx="225360" cy="231840"/>
          </a:xfrm>
        </p:grpSpPr>
        <p:pic>
          <p:nvPicPr>
            <p:cNvPr id="923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28828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4" name=""/>
            <p:cNvSpPr/>
            <p:nvPr/>
          </p:nvSpPr>
          <p:spPr>
            <a:xfrm rot="10800000">
              <a:off x="915840" y="29412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5" name="직사각형 23"/>
          <p:cNvSpPr/>
          <p:nvPr/>
        </p:nvSpPr>
        <p:spPr>
          <a:xfrm>
            <a:off x="928800" y="3890880"/>
            <a:ext cx="766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선택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내용이 수업 내용과 일치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들에게 배울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회를 제공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규준집단을 가지고 있는지 확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준비시키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실시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항상 동일하게 실시하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결과 해석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“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및 학부모와 공유하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2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2BF14-3F35-4CE5-87A6-D4782DBB1A1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2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3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술 통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3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4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4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빈도분석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몇 명 인지 점수의 분포를 보여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직사각형 16"/>
          <p:cNvSpPr/>
          <p:nvPr/>
        </p:nvSpPr>
        <p:spPr>
          <a:xfrm>
            <a:off x="928800" y="2571840"/>
            <a:ext cx="778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집중 경향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한 집단의 전체적인 수행을 양적으로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4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직사각형 20"/>
          <p:cNvSpPr/>
          <p:nvPr/>
        </p:nvSpPr>
        <p:spPr>
          <a:xfrm>
            <a:off x="928800" y="435780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변산도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들이 얼마나 퍼져 있는지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편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vs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분산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타원 24"/>
          <p:cNvGrpSpPr/>
          <p:nvPr/>
        </p:nvGrpSpPr>
        <p:grpSpPr>
          <a:xfrm>
            <a:off x="858960" y="4529160"/>
            <a:ext cx="226800" cy="225360"/>
            <a:chOff x="858960" y="4529160"/>
            <a:chExt cx="226800" cy="225360"/>
          </a:xfrm>
        </p:grpSpPr>
        <p:pic>
          <p:nvPicPr>
            <p:cNvPr id="95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5291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"/>
            <p:cNvSpPr/>
            <p:nvPr/>
          </p:nvSpPr>
          <p:spPr>
            <a:xfrm rot="10800000">
              <a:off x="942840" y="45842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직사각형 26"/>
          <p:cNvSpPr/>
          <p:nvPr/>
        </p:nvSpPr>
        <p:spPr>
          <a:xfrm>
            <a:off x="928800" y="578628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상분포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좌우 대칭의 종 모양의 분포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타원 27"/>
          <p:cNvGrpSpPr/>
          <p:nvPr/>
        </p:nvGrpSpPr>
        <p:grpSpPr>
          <a:xfrm>
            <a:off x="858960" y="5937120"/>
            <a:ext cx="226800" cy="225720"/>
            <a:chOff x="858960" y="5937120"/>
            <a:chExt cx="226800" cy="225720"/>
          </a:xfrm>
        </p:grpSpPr>
        <p:pic>
          <p:nvPicPr>
            <p:cNvPr id="954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937120"/>
              <a:ext cx="22680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5" name=""/>
            <p:cNvSpPr/>
            <p:nvPr/>
          </p:nvSpPr>
          <p:spPr>
            <a:xfrm rot="10800000">
              <a:off x="942840" y="5994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5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5CCCC-EA50-4AE8-88D7-1265DA26AB0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5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6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해 및 해석잏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6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6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6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7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7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서로 다른 학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라에 살고 있는 학생들과 비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직사각형 16"/>
          <p:cNvSpPr/>
          <p:nvPr/>
        </p:nvSpPr>
        <p:spPr>
          <a:xfrm>
            <a:off x="928800" y="257184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이 표준화 검사 혹은 그 하위 검사에서 정확하게 반응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7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8" name="직사각형 20"/>
          <p:cNvSpPr/>
          <p:nvPr/>
        </p:nvSpPr>
        <p:spPr>
          <a:xfrm>
            <a:off x="928800" y="31431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백분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검수를 다른 모든 학생들의 점수와 비교하여 나온 등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타원 24"/>
          <p:cNvGrpSpPr/>
          <p:nvPr/>
        </p:nvGrpSpPr>
        <p:grpSpPr>
          <a:xfrm>
            <a:off x="858960" y="3316320"/>
            <a:ext cx="226800" cy="225360"/>
            <a:chOff x="858960" y="3316320"/>
            <a:chExt cx="226800" cy="225360"/>
          </a:xfrm>
        </p:grpSpPr>
        <p:pic>
          <p:nvPicPr>
            <p:cNvPr id="98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331632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1" name=""/>
            <p:cNvSpPr/>
            <p:nvPr/>
          </p:nvSpPr>
          <p:spPr>
            <a:xfrm rot="10800000">
              <a:off x="942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2" name="직사각형 21"/>
          <p:cNvSpPr/>
          <p:nvPr/>
        </p:nvSpPr>
        <p:spPr>
          <a:xfrm>
            <a:off x="928800" y="367668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 점수에서 학생이 얼마나 잘했는지 표준편차를 기본단위로 해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술한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Z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으로부터 몇 표준편차 만큼 떨어져 있는지에 관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3" name="타원 22"/>
          <p:cNvGrpSpPr/>
          <p:nvPr/>
        </p:nvGrpSpPr>
        <p:grpSpPr>
          <a:xfrm>
            <a:off x="858960" y="3816360"/>
            <a:ext cx="226800" cy="225360"/>
            <a:chOff x="858960" y="3816360"/>
            <a:chExt cx="226800" cy="225360"/>
          </a:xfrm>
        </p:grpSpPr>
        <p:pic>
          <p:nvPicPr>
            <p:cNvPr id="984" name="타원 22" descr=""/>
            <p:cNvPicPr/>
            <p:nvPr/>
          </p:nvPicPr>
          <p:blipFill>
            <a:blip r:embed="rId7"/>
            <a:stretch/>
          </p:blipFill>
          <p:spPr>
            <a:xfrm>
              <a:off x="858960" y="3816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"/>
            <p:cNvSpPr/>
            <p:nvPr/>
          </p:nvSpPr>
          <p:spPr>
            <a:xfrm rot="10800000">
              <a:off x="942840" y="3870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TextBox 9" descr=""/>
          <p:cNvPicPr/>
          <p:nvPr/>
        </p:nvPicPr>
        <p:blipFill>
          <a:blip r:embed="rId1"/>
          <a:stretch/>
        </p:blipFill>
        <p:spPr>
          <a:xfrm>
            <a:off x="4730760" y="506520"/>
            <a:ext cx="4168800" cy="590400"/>
          </a:xfrm>
          <a:prstGeom prst="rect">
            <a:avLst/>
          </a:prstGeom>
          <a:ln w="0">
            <a:noFill/>
          </a:ln>
        </p:spPr>
      </p:pic>
      <p:sp>
        <p:nvSpPr>
          <p:cNvPr id="98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1EF95-49BC-45C8-A697-1B9BD81F693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8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9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쟁점 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9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3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의 다양성과 검사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 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절차 및 사용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타원 25"/>
          <p:cNvGrpSpPr/>
          <p:nvPr/>
        </p:nvGrpSpPr>
        <p:grpSpPr>
          <a:xfrm>
            <a:off x="835200" y="3078000"/>
            <a:ext cx="225360" cy="225720"/>
            <a:chOff x="835200" y="3078000"/>
            <a:chExt cx="225360" cy="225720"/>
          </a:xfrm>
        </p:grpSpPr>
        <p:pic>
          <p:nvPicPr>
            <p:cNvPr id="1005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307800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 rot="10800000">
              <a:off x="915840" y="313704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직사각형 21"/>
          <p:cNvSpPr/>
          <p:nvPr/>
        </p:nvSpPr>
        <p:spPr>
          <a:xfrm>
            <a:off x="928800" y="2928960"/>
            <a:ext cx="77864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안적인 평가를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급 관찰 및 기타 사항을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표와 기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리 정한 교육목표 측정에 대한 동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간이 많이 걸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의 문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03T23:57:37Z</dcterms:modified>
  <cp:revision>375</cp:revision>
  <dc:subject/>
  <dc:title>PowerPoint Template</dc:title>
</cp:coreProperties>
</file>